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320A-1BDE-4ABC-B087-9C914FB3F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D606-ED15-4072-BA9E-CC2042E6C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0556-5404-4593-BF06-11C334C5F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A24E-4BD3-428D-BCAC-BF674D4CD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7E2D-E07A-440E-AB65-0603A8B1A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D4FB-EB8F-45A9-8377-9788DED9A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6E4D-8D99-41B2-A2A7-1F79A107D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A7F4-8567-4BBC-8B85-E2723095F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392D-D2E4-4540-87A9-CF07ACD30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6BEB-B538-487C-8CCA-DA32B99D5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C349-B637-4C11-9E1C-5B0A6858D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2245-79D0-457D-A08D-32D469B23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D991A-1924-47B4-926D-F4F3B24180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Ellipses and Eccentricity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837720" y="6858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lip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648320" y="8380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urved sha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hape of the orbit of things going around the s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481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380520" y="76212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centri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0" y="8380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stretched out an ellipse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ect circles have an eccentricity of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attened ellipses have an eccentri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oser to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1981080"/>
            <a:ext cx="1904760" cy="1752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4495680"/>
            <a:ext cx="35812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" dur="1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" dur="10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13716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t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tero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447920"/>
            <a:ext cx="403848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eccentricities closer to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eccentricities closer to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onger the period of a comet, the closer its eccentricity is to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ccentricity co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24080" y="1143000"/>
            <a:ext cx="0" cy="571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" dur="1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" dur="10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" dur="1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0" dur="10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0T19:30:18Z</dcterms:created>
  <dc:creator>Jean Kavanagh</dc:creator>
  <dc:description/>
  <dc:language>en-US</dc:language>
  <cp:lastModifiedBy>Jean Kavanagh</cp:lastModifiedBy>
  <dcterms:modified xsi:type="dcterms:W3CDTF">2007-12-10T19:35:31Z</dcterms:modified>
  <cp:revision>3</cp:revision>
  <dc:subject/>
  <dc:title>Ellipses and Eccentricity</dc:title>
</cp:coreProperties>
</file>